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38.jpeg" ContentType="image/jpeg"/>
  <Override PartName="/ppt/media/image34.png" ContentType="image/png"/>
  <Override PartName="/ppt/media/image8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37.png" ContentType="image/png"/>
  <Override PartName="/ppt/media/image18.png" ContentType="image/png"/>
  <Override PartName="/ppt/media/image6.jpeg" ContentType="image/jpe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3.png" ContentType="image/png"/>
  <Override PartName="/ppt/media/image11.png" ContentType="image/png"/>
  <Override PartName="/ppt/media/image9.jpeg" ContentType="image/jpeg"/>
  <Override PartName="/ppt/media/image14.png" ContentType="image/pn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A33-CCAA-4C6E-B4CD-30FBC204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AA5-4433-4A21-95CA-B9739975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DBDA2-5104-40DE-807B-63BF0175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BABF4-96D8-49D4-BEEC-4FDA8CE2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92210-4673-4C1C-A300-02E18E38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61E6A-96D0-4CB7-81C3-2B325309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D9194-5A8B-41EA-8DA4-67CCA4E0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C649D-35E0-4ECD-97D3-F62FFF3B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1E52F-4B35-4D6E-BB5F-BE19F017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1DC7D-1F1D-4E39-A94A-A8366C4F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CC308-DA71-4952-998A-6DDB6426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7835-C49A-4080-B7A4-66DD747C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1BA9-13F3-42CA-85EB-496E8B53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A193-3BDF-43BF-ABB0-471D0A16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D88E-5418-4191-A3AE-7A16F852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1593-DFD8-4F18-A244-F2BC507F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8793-FA12-4A61-B45E-97B1B651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ECE0-3710-4006-B2B6-37A38036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F68A-B07C-44CB-8E82-87DBA307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E8DF-3BCF-4A5B-A57B-BC5BF65B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F1F-59DE-42A7-861D-F36CD48D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CBF8-2FFA-48C9-AA10-21B73133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7170-B387-4160-B209-16208190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7A09-5777-4569-B963-9658F578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A6C5-A73B-48BE-B6AD-766EC06D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844D-46E1-48E4-BEE3-7DA8A1FE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E6FAD-0169-43C9-B14E-98BADD81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A889B-56DC-4D57-95A4-D2CD799C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78A59-5A33-4896-ACD1-C554A5B3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81296-0FC0-4AD1-9249-AF274F37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9C342-B0AF-4112-B647-222177CD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1947-2BF2-494B-AC5A-05969459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583ED-CC18-4A79-B5AE-C73FB17D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8DB3B-6C21-45A8-A711-C2EB46CE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4FA6A-CD5E-4E48-A439-78DDC476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2A100-A0A9-4E6F-BCBC-1553B63A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8DC5B-9DC3-4AB4-A77F-1D84B3DB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06FB0-4041-482E-A4E3-A522DEC8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A4EDD-C7A7-41BA-9CCD-7B80D1EA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6E8CF-77BB-400F-9D72-6018EE4E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A96C5-6F1D-43DA-803E-47951ECA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AB579-8000-41BC-AAC2-D1160E54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6591-A9D4-4FDE-BDE2-14DBFC8B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F8B93-324C-46B3-99DD-7CEF9978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958DA-5C4C-4798-ADA5-8C097731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BD0AE-55C5-44D3-B362-7176F6A1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9A310-93A4-4024-AC2F-F5B2F5E1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517AF-1111-4573-A928-AFDBBC86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0F125-6AB0-4EC8-A112-08F4BFD4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7B85D-2098-4C27-8F8A-E4A1636D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A729B-9B19-41D0-9023-9D13FF97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C6F22-73DC-4256-B768-43C8E359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0EBF2-8D67-4A6A-BEF6-4048E286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954-BD41-487D-8F47-A45C0D68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4B4D7-1A5E-4401-8219-DFDA4E27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FEC2D-37B6-4881-A86B-C50B4BAA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5A213-F4AD-44F3-9F50-9154F26C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6F958-1B2B-4A57-8BBF-9C7E829C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1CD79-0033-4663-934B-1D0D52DB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2F356-28DE-4196-8FDD-065B9F46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91353-D788-496E-BC80-2474F1AF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641AF-13B9-49FD-ADBA-ED3A09FD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8FD87-3A07-4859-9AAC-324BFE49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6D788-6389-4019-877F-61A76E41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EAA-64A3-436E-A6AF-42A4342B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0C98B-4BAB-4091-BDDE-6714D4F5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FE463-FC3B-4495-AB01-D6760D22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499FF-9DC9-453E-9F9D-38546416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59F37-7B5C-4E39-92B8-8019EA8D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8EB7E-CCFB-4405-9C8D-077B2135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7E0A8-BB96-4B1D-9E7F-35942FD3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C8332-3AE1-46B5-9948-228BA5DD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16A51-1BB4-4A1D-BECA-294ABBC0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8383A-0618-45E6-8D30-B1E2091C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87CF9-E908-4ED4-82A0-6DEC68E4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14A-07FE-4040-99F0-59C7DB7B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03B93-D635-4726-837B-AB122DAD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46A81-0C8B-4217-92E8-619045448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08224-C323-4C5D-ABB1-4DDCF4F3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A6988-4928-4D01-BC4C-23DF3B1B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96CB8-2417-4797-9A69-271B6CE0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9179C-C9AC-4455-90EF-FE2C5DE5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E5CA4-5576-4F7A-8410-F6269BED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BA695-D882-43DF-B41A-ECE091ED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E5EB1-002A-4C15-8B0E-39941B8D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DBDBD-1C6D-46DE-BA4D-F234A4BA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851-27D6-4E56-BCD6-A19D161F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03FBA-DB08-48B0-8566-2AFABB7A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64E3F-6EF6-4AC7-ABE1-77C87C5A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1DB46-9E0F-4502-A39F-A463A113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6859F-1249-4685-A731-EEBA89BA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8CA72-760D-46F9-B3C2-A7ECB0DA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CB1EA-7943-4E72-AB3B-D7D4B6B9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159AC-557F-40B3-8432-C401DE1C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B5149-2F8E-4656-BCD8-04A0BA01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07E3C-DC15-4436-BA1C-09319657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74C07-3C13-435F-B816-BBCD6047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A82B-F725-4142-B474-84090CF4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15FD6-6D76-4D2F-8039-F2703795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69C09-5AF7-43DD-92BE-BA2D1583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F2065-181D-4D0E-94C6-4688C260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B00A1-2998-4196-94F1-B7A365B2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D5430-51D8-4F59-B94B-096D4B01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1A96C-F2B4-4AC6-8CF8-490AE984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0E33E-9382-4BB0-881A-D1FC1E8F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F29D1-3121-460D-A605-3DB7AF75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FE0C0-C1A7-4F09-A7A3-7A2C2EDF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3023A-E32E-41BB-9EC9-F0BD24F9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3159-E07A-44EA-AA60-023DC504373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Straight Connector 14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3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0103-92DA-4758-B8FE-A060FCD9A51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7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B4B6-49FD-4A14-BF58-CA16EC34344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Straight Connector 14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9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B981-94B5-43E5-82F6-3ADF50DE275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Straight Connector 14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93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A61A-B602-4362-9D06-7A0D098D659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4CD0-0C4E-4D14-A033-2E3E8F8EA0D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Straight Connector 14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8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2CE8-1724-4AA4-A967-C1EE8DF6E29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2901-FB1E-4CD0-BEBE-0037AFF8DE6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0C70-0326-459D-A20E-F9E5DC86F6A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HAPTER 6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INTRODUCTION TO SQ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1498680" y="6245280"/>
            <a:ext cx="64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8e27"/>
                </a:solidFill>
                <a:latin typeface="Tahoma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CA1C-89BF-40EB-BF96-989AA060661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990720" y="33523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Modern Database Manageme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11</a:t>
            </a:r>
            <a:r>
              <a:rPr b="1" i="1" lang="en-US" sz="2200" spc="-1" strike="noStrike" baseline="30000">
                <a:solidFill>
                  <a:srgbClr val="0070c0"/>
                </a:solidFill>
                <a:latin typeface="Franklin Gothic Book"/>
                <a:ea typeface="Times New Roman"/>
              </a:rPr>
              <a:t>th</a:t>
            </a: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 Editio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Franklin Gothic Book"/>
                <a:ea typeface="Times New Roman"/>
              </a:rPr>
              <a:t>Jeffrey A. Hoffer,  V. Ramesh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Franklin Gothic Book"/>
                <a:ea typeface="Times New Roman"/>
              </a:rPr>
              <a:t>Heikki Topi</a:t>
            </a:r>
            <a:r>
              <a:rPr b="0" lang="en-US" sz="22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ED18-17DC-4049-8156-F0D6D949FEA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881280" y="152280"/>
            <a:ext cx="788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6-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L, DML, DCL, and the database development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6" name="Picture 4" descr="Noname.jpg"/>
          <p:cNvPicPr/>
          <p:nvPr/>
        </p:nvPicPr>
        <p:blipFill>
          <a:blip r:embed="rId2"/>
          <a:stretch/>
        </p:blipFill>
        <p:spPr>
          <a:xfrm>
            <a:off x="1058760" y="1033560"/>
            <a:ext cx="7183440" cy="5229000"/>
          </a:xfrm>
          <a:prstGeom prst="rect">
            <a:avLst/>
          </a:prstGeom>
          <a:ln w="0">
            <a:noFill/>
          </a:ln>
        </p:spPr>
      </p:pic>
      <p:sp>
        <p:nvSpPr>
          <p:cNvPr id="437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E769-B7B6-4187-A8E7-ACB4685C5C8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QL DATABASE DEFINI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06440" y="1179000"/>
            <a:ext cx="8548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ta Definition Language (DDL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jor CREATE statement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REATE SCHEMA–defines a portion of the database owned by a particular use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REATE TABLE–defines a new table and its column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REATE VIEW–defines a logical table from one or more tables or view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ther CREATE statements: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HARACTER SET, COLLATION, TRANSLATION, ASSERTION, DOMAI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AF20-0262-48F4-9626-2BE3E097D7F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50400" y="39168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TEPS IN TABLE CRE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6315-8826-4E4D-A63F-2394A9512D26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276120" y="1270080"/>
            <a:ext cx="88678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Identify data types for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Identify columns that can and cannot be n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Identify columns that must be unique (candidate ke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Identify primary key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foreign key m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Determine default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Identify constraints on columns (domain specific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reate the table and associated ind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0445-5310-4DF9-8E6A-75A3A612BD1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1251000" y="246240"/>
            <a:ext cx="72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6-5 General syntax for CREATE TABLE statement used in data definition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8" name="Picture 6" descr="Noname.jpg"/>
          <p:cNvPicPr/>
          <p:nvPr/>
        </p:nvPicPr>
        <p:blipFill>
          <a:blip r:embed="rId2"/>
          <a:stretch/>
        </p:blipFill>
        <p:spPr>
          <a:xfrm>
            <a:off x="1071720" y="1214280"/>
            <a:ext cx="64180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6" descr="Noname.jpg"/>
          <p:cNvPicPr/>
          <p:nvPr/>
        </p:nvPicPr>
        <p:blipFill>
          <a:blip r:embed="rId2"/>
          <a:stretch/>
        </p:blipFill>
        <p:spPr>
          <a:xfrm>
            <a:off x="630360" y="1592280"/>
            <a:ext cx="8121600" cy="462744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THE FOLLOWING SLIDES CREATE TABLES FOR THIS ENTERPRISE DATA MOD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1" name="Slide Number Placeholder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2CA9-DE3E-4587-A9DB-B38D323A75B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TextBox 5"/>
          <p:cNvSpPr/>
          <p:nvPr/>
        </p:nvSpPr>
        <p:spPr>
          <a:xfrm>
            <a:off x="3311640" y="354168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(from Chapter 1, Figure 1-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9" descr="Noname.gif"/>
          <p:cNvPicPr/>
          <p:nvPr/>
        </p:nvPicPr>
        <p:blipFill>
          <a:blip r:embed="rId2"/>
          <a:stretch/>
        </p:blipFill>
        <p:spPr>
          <a:xfrm>
            <a:off x="639720" y="668160"/>
            <a:ext cx="7531200" cy="5704200"/>
          </a:xfrm>
          <a:prstGeom prst="rect">
            <a:avLst/>
          </a:prstGeom>
          <a:ln w="0">
            <a:noFill/>
          </a:ln>
        </p:spPr>
      </p:pic>
      <p:sp>
        <p:nvSpPr>
          <p:cNvPr id="45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0399-99C0-464D-8584-D74F832765C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318960" y="15840"/>
            <a:ext cx="869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6-6 SQL database definition commands for Pine Valley Furniture Company (Oracle 11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6324480" y="10666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Overall table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Rectangle 10"/>
          <p:cNvSpPr/>
          <p:nvPr/>
        </p:nvSpPr>
        <p:spPr>
          <a:xfrm>
            <a:off x="668160" y="682560"/>
            <a:ext cx="5224680" cy="1494000"/>
          </a:xfrm>
          <a:prstGeom prst="rect">
            <a:avLst/>
          </a:prstGeom>
          <a:noFill/>
          <a:ln w="126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646200" y="2184480"/>
            <a:ext cx="5275080" cy="1139760"/>
          </a:xfrm>
          <a:prstGeom prst="rect">
            <a:avLst/>
          </a:prstGeom>
          <a:noFill/>
          <a:ln w="126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12"/>
          <p:cNvSpPr/>
          <p:nvPr/>
        </p:nvSpPr>
        <p:spPr>
          <a:xfrm>
            <a:off x="660240" y="3344760"/>
            <a:ext cx="5275440" cy="1633680"/>
          </a:xfrm>
          <a:prstGeom prst="rect">
            <a:avLst/>
          </a:prstGeom>
          <a:noFill/>
          <a:ln w="126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Rectangle 13"/>
          <p:cNvSpPr/>
          <p:nvPr/>
        </p:nvSpPr>
        <p:spPr>
          <a:xfrm>
            <a:off x="674640" y="5000760"/>
            <a:ext cx="5246640" cy="1341360"/>
          </a:xfrm>
          <a:prstGeom prst="rect">
            <a:avLst/>
          </a:prstGeom>
          <a:noFill/>
          <a:ln w="126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6" descr="Noname.gif"/>
          <p:cNvPicPr/>
          <p:nvPr/>
        </p:nvPicPr>
        <p:blipFill>
          <a:blip r:embed="rId2"/>
          <a:stretch/>
        </p:blipFill>
        <p:spPr>
          <a:xfrm>
            <a:off x="592200" y="1139760"/>
            <a:ext cx="7610400" cy="4564080"/>
          </a:xfrm>
          <a:prstGeom prst="rect">
            <a:avLst/>
          </a:prstGeom>
          <a:ln w="0">
            <a:noFill/>
          </a:ln>
        </p:spPr>
      </p:pic>
      <p:sp>
        <p:nvSpPr>
          <p:cNvPr id="462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9775-9C25-44C3-A51C-C68393E1F6A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990720" y="1969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Defining attributes and their data typ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9"/>
          <p:cNvSpPr/>
          <p:nvPr/>
        </p:nvSpPr>
        <p:spPr>
          <a:xfrm>
            <a:off x="2062080" y="1654200"/>
            <a:ext cx="4338720" cy="1436760"/>
          </a:xfrm>
          <a:prstGeom prst="rect">
            <a:avLst/>
          </a:prstGeom>
          <a:noFill/>
          <a:ln w="126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10"/>
          <p:cNvSpPr/>
          <p:nvPr/>
        </p:nvSpPr>
        <p:spPr>
          <a:xfrm>
            <a:off x="2068560" y="4070520"/>
            <a:ext cx="4317840" cy="1009440"/>
          </a:xfrm>
          <a:prstGeom prst="rect">
            <a:avLst/>
          </a:prstGeom>
          <a:noFill/>
          <a:ln w="126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E24F-0EB2-41A7-9E4F-189B2A72B88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8" descr="Noname.gif"/>
          <p:cNvPicPr/>
          <p:nvPr/>
        </p:nvPicPr>
        <p:blipFill>
          <a:blip r:embed="rId2"/>
          <a:stretch/>
        </p:blipFill>
        <p:spPr>
          <a:xfrm>
            <a:off x="592200" y="1139760"/>
            <a:ext cx="7610400" cy="4564080"/>
          </a:xfrm>
          <a:prstGeom prst="rect">
            <a:avLst/>
          </a:prstGeom>
          <a:ln w="0">
            <a:noFill/>
          </a:ln>
        </p:spPr>
      </p:pic>
      <p:sp>
        <p:nvSpPr>
          <p:cNvPr id="470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ACB3-42F4-49AD-94AA-F8ED4447294D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3200400" y="484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Non-nullable specifi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6629400" y="1720800"/>
            <a:ext cx="1143000" cy="3808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1846440" y="56404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Identifying primary ke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"/>
          <p:cNvSpPr/>
          <p:nvPr/>
        </p:nvSpPr>
        <p:spPr>
          <a:xfrm>
            <a:off x="601560" y="5095800"/>
            <a:ext cx="5257800" cy="45720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6189840" y="4451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rimary keys can never have NULL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F92E-F2C3-4BF8-8BC2-04F5B4E193C6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8" descr="Noname.gif"/>
          <p:cNvPicPr/>
          <p:nvPr/>
        </p:nvPicPr>
        <p:blipFill>
          <a:blip r:embed="rId2"/>
          <a:stretch/>
        </p:blipFill>
        <p:spPr>
          <a:xfrm>
            <a:off x="216000" y="1316160"/>
            <a:ext cx="8651880" cy="3111480"/>
          </a:xfrm>
          <a:prstGeom prst="rect">
            <a:avLst/>
          </a:prstGeom>
          <a:ln w="0">
            <a:noFill/>
          </a:ln>
        </p:spPr>
      </p:pic>
      <p:sp>
        <p:nvSpPr>
          <p:cNvPr id="480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9CA7-135A-4D1D-B5DB-35AAD08CC89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4724280" y="8017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on-nullable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7707240" y="1741320"/>
            <a:ext cx="1143000" cy="91440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272880" y="3075120"/>
            <a:ext cx="5983560" cy="36972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6539040" y="297504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Primary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1371600" y="449568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ome primary keys are composite– composed of multiple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C9B3-89DF-45D3-843A-10CC462B4BD2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8" descr="Noname.gif"/>
          <p:cNvPicPr/>
          <p:nvPr/>
        </p:nvPicPr>
        <p:blipFill>
          <a:blip r:embed="rId2"/>
          <a:stretch/>
        </p:blipFill>
        <p:spPr>
          <a:xfrm>
            <a:off x="457200" y="1182600"/>
            <a:ext cx="8191440" cy="4346640"/>
          </a:xfrm>
          <a:prstGeom prst="rect">
            <a:avLst/>
          </a:prstGeom>
          <a:ln w="0">
            <a:noFill/>
          </a:ln>
        </p:spPr>
      </p:pic>
      <p:sp>
        <p:nvSpPr>
          <p:cNvPr id="490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7EE5-5AEE-43BD-A7DF-0FF1DAA2C75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3606840" y="4129200"/>
            <a:ext cx="5105520" cy="53820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5342040" y="1724040"/>
            <a:ext cx="2147760" cy="36972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6796080" y="1995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Default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900000" y="4143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Domain constra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1143000" y="2728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ontrolling the values in attribut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2D67-8FF4-4F0C-81C0-9F0C5D82898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58720" y="32976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4120" y="1368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fine term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terpret history and role of SQL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fine a database using SQL data definition languag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rite single table queries using SQ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stablish referential integrity using SQ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iscuss SQL:1999 and SQL:2008 standard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72AF-E83C-43DA-8707-6D88BEA9F4A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9" descr="Noname.gif"/>
          <p:cNvPicPr/>
          <p:nvPr/>
        </p:nvPicPr>
        <p:blipFill>
          <a:blip r:embed="rId2"/>
          <a:stretch/>
        </p:blipFill>
        <p:spPr>
          <a:xfrm>
            <a:off x="258840" y="812880"/>
            <a:ext cx="8696160" cy="5051520"/>
          </a:xfrm>
          <a:prstGeom prst="rect">
            <a:avLst/>
          </a:prstGeom>
          <a:ln w="0">
            <a:noFill/>
          </a:ln>
        </p:spPr>
      </p:pic>
      <p:sp>
        <p:nvSpPr>
          <p:cNvPr id="500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E2F0-290D-4620-8394-22A52BF4C67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228600" y="5376960"/>
            <a:ext cx="8610480" cy="3808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262080" y="224784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rimary key of  parent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0" y="152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Identifying foreign keys and establishing relationship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ectangle 9"/>
          <p:cNvSpPr/>
          <p:nvPr/>
        </p:nvSpPr>
        <p:spPr>
          <a:xfrm>
            <a:off x="2144880" y="1189080"/>
            <a:ext cx="6723000" cy="36684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 Box 10"/>
          <p:cNvSpPr/>
          <p:nvPr/>
        </p:nvSpPr>
        <p:spPr>
          <a:xfrm>
            <a:off x="1916280" y="5713560"/>
            <a:ext cx="47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Foreign key of  dependent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ectangle 11"/>
          <p:cNvSpPr/>
          <p:nvPr/>
        </p:nvSpPr>
        <p:spPr>
          <a:xfrm>
            <a:off x="318960" y="3200400"/>
            <a:ext cx="5015160" cy="3808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11B7-D989-45AD-8EEE-B961802F10E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ATA INTEGRITY CONTROLS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85800" y="1495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Referential integrity–constraint that ensures that foreign key values of a table must match primary key values of a related table in 1:M relationship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Restricting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letes of primary record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pdates of primary record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serts of dependent record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BB51-00C8-4630-99C9-CC34B7ECDA8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AC77-D088-4560-9B0A-5E7A9EB3C9FD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6767640" y="1908000"/>
            <a:ext cx="213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Relational integrity is enforced via the primary-key to foreign-key m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409320" y="152280"/>
            <a:ext cx="63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6-7 Ensuring data integrity through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6" name="Picture 5" descr="Noname.gif"/>
          <p:cNvPicPr/>
          <p:nvPr/>
        </p:nvPicPr>
        <p:blipFill>
          <a:blip r:embed="rId2"/>
          <a:stretch/>
        </p:blipFill>
        <p:spPr>
          <a:xfrm>
            <a:off x="720720" y="658800"/>
            <a:ext cx="5805360" cy="5510160"/>
          </a:xfrm>
          <a:prstGeom prst="rect">
            <a:avLst/>
          </a:prstGeom>
          <a:ln w="0">
            <a:noFill/>
          </a:ln>
        </p:spPr>
      </p:pic>
      <p:sp>
        <p:nvSpPr>
          <p:cNvPr id="517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A729-3E0F-46D7-B51B-7B8CE0EF4D1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HANGING TABLES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119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LTER TABLE statement allows you to change column specification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02600" indent="-102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02600" indent="-102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able Action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02600" indent="-102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02600" indent="-102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02600" indent="-102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xample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(adding a new column with a default value)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02600" indent="-102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72FE-8F4D-4979-ABE6-DA1436C630D2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3" name="Picture 4" descr="Noname.gif"/>
          <p:cNvPicPr/>
          <p:nvPr/>
        </p:nvPicPr>
        <p:blipFill>
          <a:blip r:embed="rId2"/>
          <a:stretch/>
        </p:blipFill>
        <p:spPr>
          <a:xfrm>
            <a:off x="1577880" y="2286000"/>
            <a:ext cx="4759560" cy="6015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Noname.gif"/>
          <p:cNvPicPr/>
          <p:nvPr/>
        </p:nvPicPr>
        <p:blipFill>
          <a:blip r:embed="rId3"/>
          <a:stretch/>
        </p:blipFill>
        <p:spPr>
          <a:xfrm>
            <a:off x="3479760" y="3071880"/>
            <a:ext cx="5057640" cy="16016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Noname.gif"/>
          <p:cNvPicPr/>
          <p:nvPr/>
        </p:nvPicPr>
        <p:blipFill>
          <a:blip r:embed="rId4"/>
          <a:stretch/>
        </p:blipFill>
        <p:spPr>
          <a:xfrm>
            <a:off x="1217520" y="5214960"/>
            <a:ext cx="666756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0344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REMOVING TABLES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31840" y="132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DROP TABLE statement allows you to remove tables from your schema: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ROP TABLE CUSTOMER_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17D3-BE6A-4005-9F99-55A173A9AEB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INSERT STATEMEN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0" y="12189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dds one or more rows to a tabl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serting into a tabl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serting a record that has some null attributes requires identifying the fields that actually get dat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serting from another tabl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6AA8-62B2-4B1B-8B65-A5526FD9DA2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2" name="Picture 4" descr="Noname.gif"/>
          <p:cNvPicPr/>
          <p:nvPr/>
        </p:nvPicPr>
        <p:blipFill>
          <a:blip r:embed="rId2"/>
          <a:stretch/>
        </p:blipFill>
        <p:spPr>
          <a:xfrm>
            <a:off x="519120" y="2195640"/>
            <a:ext cx="8317080" cy="9111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Noname.gif"/>
          <p:cNvPicPr/>
          <p:nvPr/>
        </p:nvPicPr>
        <p:blipFill>
          <a:blip r:embed="rId3"/>
          <a:stretch/>
        </p:blipFill>
        <p:spPr>
          <a:xfrm>
            <a:off x="1147680" y="3914640"/>
            <a:ext cx="6297840" cy="10353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Noname.gif"/>
          <p:cNvPicPr/>
          <p:nvPr/>
        </p:nvPicPr>
        <p:blipFill>
          <a:blip r:embed="rId4"/>
          <a:stretch/>
        </p:blipFill>
        <p:spPr>
          <a:xfrm>
            <a:off x="1562040" y="5303880"/>
            <a:ext cx="435924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7" descr="Noname.gif"/>
          <p:cNvPicPr/>
          <p:nvPr/>
        </p:nvPicPr>
        <p:blipFill>
          <a:blip r:embed="rId2"/>
          <a:stretch/>
        </p:blipFill>
        <p:spPr>
          <a:xfrm>
            <a:off x="1224000" y="1087560"/>
            <a:ext cx="6613560" cy="362268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4240" y="409680"/>
            <a:ext cx="8969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REATING TABLES WITH IDENTITY COLUMN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7" name="Slide Number Placeholder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18CE-6E7A-44D6-A0CB-21FAB645C536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990720" y="4738680"/>
            <a:ext cx="739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erting into a table does not require explicit customer ID entry or field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Arial"/>
              </a:rPr>
              <a:t>INSERT INTO CUSTOMER_T VALUES ( ‘Contemporary Casuals’, ‘1355 S. Himes Blvd.’, ‘Gainesville’, ‘FL’, 3260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4381560" y="2130480"/>
            <a:ext cx="2968200" cy="36828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Introduced with SQL:200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7960" y="398520"/>
            <a:ext cx="76932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ELETE STATEMEN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Removes rows from a tabl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elete certain row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Franklin Gothic Book"/>
              </a:rPr>
              <a:t>DELETE FROM CUSTOMER_T WHERE CUSTOMERSTATE = ‘HI’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elete all row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Franklin Gothic Book"/>
              </a:rPr>
              <a:t>DELETE FROM CUSTOMER_T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FDA9-D89A-4F5E-9725-080335DC2EE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5120" y="398520"/>
            <a:ext cx="729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UPDATE STATEMENT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Modifies data in existing row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E72C-F84A-47A0-AE8A-BCD324F7012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6" name="Picture 4" descr="Noname.gif"/>
          <p:cNvPicPr/>
          <p:nvPr/>
        </p:nvPicPr>
        <p:blipFill>
          <a:blip r:embed="rId2"/>
          <a:stretch/>
        </p:blipFill>
        <p:spPr>
          <a:xfrm>
            <a:off x="1236600" y="2685960"/>
            <a:ext cx="641052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875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MERGE STATEMEN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8" name="Slide Number Placeholder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48F9-45A5-4947-A952-3977F60E745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822240" y="4986360"/>
            <a:ext cx="755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Makes it easier to update a table…allows combination of Insert and Update in one stat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Useful for updating master tables with new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0" name="Group 7"/>
          <p:cNvGrpSpPr/>
          <p:nvPr/>
        </p:nvGrpSpPr>
        <p:grpSpPr>
          <a:xfrm>
            <a:off x="1081080" y="1233360"/>
            <a:ext cx="6916680" cy="3730680"/>
            <a:chOff x="1081080" y="1233360"/>
            <a:chExt cx="6916680" cy="3730680"/>
          </a:xfrm>
        </p:grpSpPr>
        <p:pic>
          <p:nvPicPr>
            <p:cNvPr id="551" name="Picture 5" descr="Noname.gif"/>
            <p:cNvPicPr/>
            <p:nvPr/>
          </p:nvPicPr>
          <p:blipFill>
            <a:blip r:embed="rId2"/>
            <a:stretch/>
          </p:blipFill>
          <p:spPr>
            <a:xfrm>
              <a:off x="1081080" y="1233360"/>
              <a:ext cx="6901200" cy="203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Noname.gif"/>
            <p:cNvPicPr/>
            <p:nvPr/>
          </p:nvPicPr>
          <p:blipFill>
            <a:blip r:embed="rId3"/>
            <a:stretch/>
          </p:blipFill>
          <p:spPr>
            <a:xfrm>
              <a:off x="1081080" y="3255480"/>
              <a:ext cx="6916680" cy="170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441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QL OVERVIEW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tructured Query Languag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standard for relational database management systems (RDBMS)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DBMS: A database management system that manages data as a collection of tables in which all relationships are represented by common values in related tabl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6AAA-F3E9-417C-A3CF-A3FD1043A96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96960" y="42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CHEMA DEFINI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20480" y="1236600"/>
            <a:ext cx="837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ntrol processing/storage efficiency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hoice of index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ile organizations for base tab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ile organizations for index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ata clustering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tatistics maintena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reating index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peed up random/sequential access to base table dat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CREATE INDEX NAME_IDX ON CUSTOMER_T(CUSTOMERNAME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is makes an index for the CUSTOMERNAME field of the CUSTOMER_T tabl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EE6D-242D-41D5-AEBA-CB911F60CB8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01720" y="391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ELECT STATEMEN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0" y="1154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ed for queries on single or multiple tabl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lauses of the SELECT statement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anklin Gothic Book"/>
              </a:rPr>
              <a:t>SELECT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List the columns (and expressions) to be returned from the quer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anklin Gothic Book"/>
              </a:rPr>
              <a:t>FROM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ndicate the table(s) or view(s) from which data will be obtaine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anklin Gothic Book"/>
              </a:rPr>
              <a:t>WHER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ndicate the conditions under which a row will be included in the result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anklin Gothic Book"/>
              </a:rPr>
              <a:t>GROUP B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ndicate categorization of results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anklin Gothic Book"/>
              </a:rPr>
              <a:t>HAVING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ndicate the conditions under which a category (group) will be include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anklin Gothic Book"/>
              </a:rPr>
              <a:t>ORDER B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orts the result according to specified criteri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359D-7E4F-4B61-B97A-4187478B637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03BF-280D-455A-9DEC-3B97A1BC156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318960" y="533520"/>
            <a:ext cx="279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igure 6-1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"/>
              </a:rPr>
              <a:t>SQL statement processing order  (based on van der Lans, 2006 p.1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" name="Picture 4" descr="Noname.jpg"/>
          <p:cNvPicPr/>
          <p:nvPr/>
        </p:nvPicPr>
        <p:blipFill>
          <a:blip r:embed="rId2"/>
          <a:stretch/>
        </p:blipFill>
        <p:spPr>
          <a:xfrm>
            <a:off x="3645000" y="193680"/>
            <a:ext cx="4019400" cy="6162840"/>
          </a:xfrm>
          <a:prstGeom prst="rect">
            <a:avLst/>
          </a:prstGeom>
          <a:ln w="0">
            <a:noFill/>
          </a:ln>
        </p:spPr>
      </p:pic>
      <p:sp>
        <p:nvSpPr>
          <p:cNvPr id="562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D37B-3874-43B2-824D-8E54B33D7EF2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ELECT EXAMPLE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01520" y="1294920"/>
            <a:ext cx="8839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nd products with standard price less than $275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7EE6-68DE-404D-B805-E66FFE3D1BB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460800" y="5410080"/>
            <a:ext cx="52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6-3: Comparison Operators in 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9" name="Picture 6" descr="Noname.gif"/>
          <p:cNvPicPr/>
          <p:nvPr/>
        </p:nvPicPr>
        <p:blipFill>
          <a:blip r:embed="rId2"/>
          <a:stretch/>
        </p:blipFill>
        <p:spPr>
          <a:xfrm>
            <a:off x="184320" y="2619360"/>
            <a:ext cx="5519520" cy="15667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Noname.jpg"/>
          <p:cNvPicPr/>
          <p:nvPr/>
        </p:nvPicPr>
        <p:blipFill>
          <a:blip r:embed="rId3"/>
          <a:stretch/>
        </p:blipFill>
        <p:spPr>
          <a:xfrm>
            <a:off x="6041880" y="1954080"/>
            <a:ext cx="28702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ELECT EXAMPLE USING ALIAS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0" y="1498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Alias is an alternative column or table nam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62720" indent="-2124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SELECT </a:t>
            </a:r>
            <a:r>
              <a:rPr b="0" lang="en-US" sz="3600" spc="-1" strike="noStrike">
                <a:solidFill>
                  <a:srgbClr val="990000"/>
                </a:solidFill>
                <a:latin typeface="Franklin Gothic Book"/>
              </a:rPr>
              <a:t>CUST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.CUSTOMERNAME AS </a:t>
            </a:r>
            <a:r>
              <a:rPr b="0" lang="en-US" sz="3600" spc="-1" strike="noStrike">
                <a:solidFill>
                  <a:srgbClr val="990000"/>
                </a:solidFill>
                <a:latin typeface="Franklin Gothic Book"/>
              </a:rPr>
              <a:t>NAME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, 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UST.CUSTOMERADDRESS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62720" indent="-2124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FROM CUSTOMER_V </a:t>
            </a:r>
            <a:r>
              <a:rPr b="0" lang="en-US" sz="3600" spc="-1" strike="noStrike">
                <a:solidFill>
                  <a:srgbClr val="990000"/>
                </a:solidFill>
                <a:latin typeface="Franklin Gothic Book"/>
              </a:rPr>
              <a:t>CUS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62720" indent="-2124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WHERE </a:t>
            </a:r>
            <a:r>
              <a:rPr b="0" lang="en-US" sz="3600" spc="-1" strike="noStrike">
                <a:solidFill>
                  <a:srgbClr val="990000"/>
                </a:solidFill>
                <a:latin typeface="Franklin Gothic Book"/>
              </a:rPr>
              <a:t>NAME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 = ‘Home Furnishings’;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178F-0CB8-4939-AD90-EEF5CC8519C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ELECT EXAMPLE USING A FUNC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88640" y="183204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sing the COUNT </a:t>
            </a: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aggregate functio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to find total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ELECT </a:t>
            </a:r>
            <a:r>
              <a:rPr b="0" lang="en-US" sz="2800" spc="-1" strike="noStrike">
                <a:solidFill>
                  <a:srgbClr val="990000"/>
                </a:solidFill>
                <a:latin typeface="Franklin Gothic Book"/>
              </a:rPr>
              <a:t>COUNT(*)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FROM ORDERLINE_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HERE ORDERID = 1004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ote: With aggregate functions you can’t have single-valued columns included in the SELECT clause, unless they are included in the GROUP BY claus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2F29-A4D2-469A-AD48-A2321AF6830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76120" y="372600"/>
            <a:ext cx="89409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"/>
              </a:rPr>
              <a:t>SELECT EXAMPLE–BOOLEAN OPERATORS</a:t>
            </a:r>
            <a:endParaRPr b="0" lang="en-US" sz="3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04560" y="10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Franklin Gothic Book"/>
              </a:rPr>
              <a:t>AND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, </a:t>
            </a:r>
            <a:r>
              <a:rPr b="0" lang="en-US" sz="2800" spc="-1" strike="noStrike">
                <a:solidFill>
                  <a:srgbClr val="990000"/>
                </a:solidFill>
                <a:latin typeface="Franklin Gothic Book"/>
              </a:rPr>
              <a:t>OR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, and </a:t>
            </a:r>
            <a:r>
              <a:rPr b="0" lang="en-US" sz="2800" spc="-1" strike="noStrike">
                <a:solidFill>
                  <a:srgbClr val="990000"/>
                </a:solidFill>
                <a:latin typeface="Franklin Gothic Book"/>
              </a:rPr>
              <a:t>NOT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Operators for customizing conditions in WHERE claus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524A-62C9-4C34-8278-8002655C259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322200" y="4745160"/>
            <a:ext cx="85741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Note: The </a:t>
            </a:r>
            <a:r>
              <a:rPr b="0" lang="en-US" sz="2300" spc="-1" strike="noStrike">
                <a:solidFill>
                  <a:srgbClr val="c00000"/>
                </a:solidFill>
                <a:latin typeface="Tahoma"/>
                <a:ea typeface="Tahoma"/>
              </a:rPr>
              <a:t>LIKE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operator allows you to compare strings using wildcards. For example, the % wildcard in ‘%Desk’  indicates that all strings that have any number of characters preceding the word “Desk” will be allowed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1" name="Picture 5" descr="Noname.gif"/>
          <p:cNvPicPr/>
          <p:nvPr/>
        </p:nvPicPr>
        <p:blipFill>
          <a:blip r:embed="rId2"/>
          <a:stretch/>
        </p:blipFill>
        <p:spPr>
          <a:xfrm>
            <a:off x="495360" y="2019240"/>
            <a:ext cx="79293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BDD6-0892-45F5-BF69-B6289B4CE326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630360" y="378000"/>
            <a:ext cx="81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gure 6-8 Boolean query A without use of  parenthe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4" name="Picture 4" descr="Noname.jpg"/>
          <p:cNvPicPr/>
          <p:nvPr/>
        </p:nvPicPr>
        <p:blipFill>
          <a:blip r:embed="rId2"/>
          <a:stretch/>
        </p:blipFill>
        <p:spPr>
          <a:xfrm>
            <a:off x="339840" y="1150920"/>
            <a:ext cx="5537160" cy="49021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Noname.jpg"/>
          <p:cNvPicPr/>
          <p:nvPr/>
        </p:nvPicPr>
        <p:blipFill>
          <a:blip r:embed="rId3"/>
          <a:stretch/>
        </p:blipFill>
        <p:spPr>
          <a:xfrm>
            <a:off x="4302000" y="1378080"/>
            <a:ext cx="4842000" cy="1190520"/>
          </a:xfrm>
          <a:prstGeom prst="rect">
            <a:avLst/>
          </a:prstGeom>
          <a:ln w="0">
            <a:noFill/>
          </a:ln>
        </p:spPr>
      </p:pic>
      <p:sp>
        <p:nvSpPr>
          <p:cNvPr id="586" name="TextBox 6"/>
          <p:cNvSpPr/>
          <p:nvPr/>
        </p:nvSpPr>
        <p:spPr>
          <a:xfrm>
            <a:off x="6226200" y="3019320"/>
            <a:ext cx="249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By default, processing order of Boolean operators is NOT, then AND, then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SELECT EXAMPLE–BOOLEAN OPERATOR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04560" y="1066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Franklin Gothic Book"/>
              </a:rPr>
              <a:t>With parentheses…</a:t>
            </a:r>
            <a:r>
              <a:rPr b="0" lang="en-US" sz="2800" spc="-1" strike="noStrike">
                <a:solidFill>
                  <a:srgbClr val="990000"/>
                </a:solidFill>
                <a:latin typeface="Franklin Gothic Book"/>
              </a:rPr>
              <a:t>these override the normal precedence of Boolean operator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4244-21CE-4389-B739-547BA96C85C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279360" y="4789440"/>
            <a:ext cx="85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With parentheses, you can override normal precedence rules. In this case parentheses make the OR take place before the A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1" name="Picture 6" descr="Noname.gif"/>
          <p:cNvPicPr/>
          <p:nvPr/>
        </p:nvPicPr>
        <p:blipFill>
          <a:blip r:embed="rId2"/>
          <a:stretch/>
        </p:blipFill>
        <p:spPr>
          <a:xfrm>
            <a:off x="747720" y="2201760"/>
            <a:ext cx="7553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4ECC-2035-451C-B17F-A557FA09B26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762120" y="449280"/>
            <a:ext cx="80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gure 6-9 Boolean query B  with use of parenthe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4" name="Picture 5" descr="Noname.jpg"/>
          <p:cNvPicPr/>
          <p:nvPr/>
        </p:nvPicPr>
        <p:blipFill>
          <a:blip r:embed="rId2"/>
          <a:stretch/>
        </p:blipFill>
        <p:spPr>
          <a:xfrm>
            <a:off x="701640" y="1135080"/>
            <a:ext cx="6091200" cy="51055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6" descr="Noname.gif"/>
          <p:cNvPicPr/>
          <p:nvPr/>
        </p:nvPicPr>
        <p:blipFill>
          <a:blip r:embed="rId3"/>
          <a:stretch/>
        </p:blipFill>
        <p:spPr>
          <a:xfrm>
            <a:off x="4594320" y="1316160"/>
            <a:ext cx="40273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HISTORY OF SQL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42440" y="1303200"/>
            <a:ext cx="819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1970–E. F. Codd develops relational database concep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1974-1979–System R with Sequel (later SQL) created at IBM Research Lab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1979–Oracle markets first relational DB with SQ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1981 – SQL/DS first available RDBMS system on DOS/VS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Others followed: INGRES (1981), IDM (1982), DG/SGL (1984), Sybase (1986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1986–ANSI SQL standard release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1989, 1992, 1999, 2003, 2006, 2008–Major ANSI standard updat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urrent–SQL is supported by most major database vendor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C730-4AD1-43D5-92D2-C9FB4C05F2D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7480" y="3884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SORTING RESULTS WITH 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ORDER BY </a:t>
            </a: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AUS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03040" y="1292040"/>
            <a:ext cx="8839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ort the results first by STATE, and within a state by the CUSTOMER NAM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6903-8FB9-437D-95FD-9ABCF377899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642960" y="4944960"/>
            <a:ext cx="81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e IN operator in this example allows you to include rows whose CustomerState value is either FL, TX, CA, or HI. It is more efficient than separate OR condi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0" name="Picture 5" descr="Noname.gif"/>
          <p:cNvPicPr/>
          <p:nvPr/>
        </p:nvPicPr>
        <p:blipFill>
          <a:blip r:embed="rId2"/>
          <a:stretch/>
        </p:blipFill>
        <p:spPr>
          <a:xfrm>
            <a:off x="430200" y="2462040"/>
            <a:ext cx="837108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06080" y="3776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ATEGORIZING RESULTS USING 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GROUP BY</a:t>
            </a: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 CLAUS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0" y="17013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r use with aggregate func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Scalar aggregate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: single value returned from SQL query with aggregate fun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Vector aggregate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: multiple values returned from SQL query with aggregate function (via GROUP BY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You can use single-value fields with aggregate functions if they are included in the GROUP BY claus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1981-89EA-48DE-9091-A129337FDD0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4" name="Picture 4" descr="Noname.gif"/>
          <p:cNvPicPr/>
          <p:nvPr/>
        </p:nvPicPr>
        <p:blipFill>
          <a:blip r:embed="rId2"/>
          <a:stretch/>
        </p:blipFill>
        <p:spPr>
          <a:xfrm>
            <a:off x="885960" y="3873600"/>
            <a:ext cx="77976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06080" y="420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QUALIFYING RESULTS BY CATEGORI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USING THE 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HAVING </a:t>
            </a: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AUS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63240" y="1676160"/>
            <a:ext cx="835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For use with GROUP BY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Like a WHERE clause, but it operates on groups (categories), not on individual rows. Here, only those groups with total numbers greater than 1 will be included in final result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D53A-99A5-4A77-BF06-E23BC80BB2E0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8" name="Picture 4" descr="Noname.gif"/>
          <p:cNvPicPr/>
          <p:nvPr/>
        </p:nvPicPr>
        <p:blipFill>
          <a:blip r:embed="rId2"/>
          <a:stretch/>
        </p:blipFill>
        <p:spPr>
          <a:xfrm>
            <a:off x="430200" y="2246400"/>
            <a:ext cx="8217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6360" y="31896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USING AND DEFINING VIEWS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0" y="1092240"/>
            <a:ext cx="914400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Views provide users controlled access to tabl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ase Table–table containing the raw dat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ynamic View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A “virtual table” created dynamically upon request by a user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No data actually stored; instead data from base table made available to user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Based on SQL SELECT statement on base tables or other view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aterialized View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Copy or replication of data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Data actually stored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ust be refreshed periodically to match corresponding base table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A3EC-DC12-4714-9360-23125F14E56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1272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AMPLE CREATE VIEW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E737-59DA-41E8-B077-854915842FC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711360" y="3809880"/>
            <a:ext cx="7750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bee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has a 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bee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is based on a SELECT state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bee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_OPTION works only for updateable  views and prevents updates that would create rows not included in the vie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5" name="Picture 7" descr="Noname.gif"/>
          <p:cNvPicPr/>
          <p:nvPr/>
        </p:nvPicPr>
        <p:blipFill>
          <a:blip r:embed="rId2"/>
          <a:stretch/>
        </p:blipFill>
        <p:spPr>
          <a:xfrm>
            <a:off x="299880" y="1011240"/>
            <a:ext cx="847116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ADVANTAGES OF VIEWS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mplify query command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ssist with data security (but don't rely on views for security, there are more important security measures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nhance programming productiv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tain most current base table dat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se little storage spa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vide customized view for us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stablish physical data independe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B0AF-CE90-4BA9-8210-DB6E969F6126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17400" y="330120"/>
            <a:ext cx="822960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ISADVANTAGES OF VIEWS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523880"/>
            <a:ext cx="8229600" cy="31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Use processing time each time view is referenced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May or may not be directly updateabl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ABFE-B731-48F0-8101-38AD799CA4D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5D56-04AB-4AB9-99D2-6E218C6CA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3" name="Picture 4" descr="cid:3287383400_2177562"/>
          <p:cNvPicPr/>
          <p:nvPr/>
        </p:nvPicPr>
        <p:blipFill>
          <a:blip r:embed="rId2"/>
          <a:stretch/>
        </p:blipFill>
        <p:spPr>
          <a:xfrm>
            <a:off x="343080" y="971640"/>
            <a:ext cx="8422920" cy="274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24" name="Rectangle 5"/>
          <p:cNvSpPr/>
          <p:nvPr/>
        </p:nvSpPr>
        <p:spPr>
          <a:xfrm>
            <a:off x="738360" y="5327640"/>
            <a:ext cx="7845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right 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7260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PURPOSE OF SQL STANDARD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pecify syntax/semantics for data definition and manipula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efine data structures and basic operation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nable portability of database definition and application modul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pecify minimal (level 1) and complete (level 2) standard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llow for later growth/enhancement to standard (referential integrity, transaction management,  user-defined functions, extended join operations, national character sets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CEAD-18C1-4BDB-92A4-550EB63D5E8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BENEFITS OF A STANDARDIZED RELATIONAL LANGUAG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78560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Reduced training cost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Productivity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Application portability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Application longevity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Reduced dependence on a single vendor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ross-system communicatio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FE67-A475-4037-B6C3-8F059AC5355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2560" y="3985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QL ENVIRONMEN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5416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Catalog</a:t>
            </a:r>
            <a:r>
              <a:rPr b="0" lang="en-US" sz="21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e3b30"/>
                </a:solidFill>
                <a:latin typeface="Franklin Gothic Book"/>
              </a:rPr>
              <a:t>A set of schemas that constitute the description of a database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Schema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e3b30"/>
                </a:solidFill>
                <a:latin typeface="Franklin Gothic Book"/>
              </a:rPr>
              <a:t>The structure that contains descriptions of objects created by a user (base tables, views, constraints)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Data Definition Language (DDL)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e3b30"/>
                </a:solidFill>
                <a:latin typeface="Franklin Gothic Book"/>
              </a:rPr>
              <a:t>Commands that define a database, including creating, altering, and dropping tables and establishing constraints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Data Manipulation Language (DML)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e3b30"/>
                </a:solidFill>
                <a:latin typeface="Franklin Gothic Book"/>
              </a:rPr>
              <a:t>Commands that maintain and query a database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Data Control Language (DCL)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e3b30"/>
                </a:solidFill>
                <a:latin typeface="Franklin Gothic Book"/>
              </a:rPr>
              <a:t>Commands that control a database, including administering privileges and committing data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7AD5-E0B1-4239-9ECE-84FC8436075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2824-8D04-41D4-9DC9-393915AA9B9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838080" y="763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6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ified schematic of a typical SQL environment, as described by the SQL: 2008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5A7B-C400-4F90-96B5-260895A17A4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0" name="Picture 7" descr="Noname.jpg"/>
          <p:cNvPicPr/>
          <p:nvPr/>
        </p:nvPicPr>
        <p:blipFill>
          <a:blip r:embed="rId2"/>
          <a:stretch/>
        </p:blipFill>
        <p:spPr>
          <a:xfrm>
            <a:off x="1481040" y="1549440"/>
            <a:ext cx="621036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7360" y="318960"/>
            <a:ext cx="807696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QL DATA TYPES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5278-57F0-4B85-8918-572A2D15504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4" descr="Noname.jpg"/>
          <p:cNvPicPr/>
          <p:nvPr/>
        </p:nvPicPr>
        <p:blipFill>
          <a:blip r:embed="rId2"/>
          <a:stretch/>
        </p:blipFill>
        <p:spPr>
          <a:xfrm>
            <a:off x="461880" y="1111320"/>
            <a:ext cx="8420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9T10:00:26Z</dcterms:created>
  <dc:creator>Michel Mitri</dc:creator>
  <dc:description/>
  <cp:keywords/>
  <dc:language>en-US</dc:language>
  <cp:lastModifiedBy>ULOFTKE</cp:lastModifiedBy>
  <cp:lastPrinted>1998-01-19T09:29:56Z</cp:lastPrinted>
  <dcterms:modified xsi:type="dcterms:W3CDTF">2012-07-31T15:33:55Z</dcterms:modified>
  <cp:revision>565</cp:revision>
  <dc:subject/>
  <dc:title>Introduction to SQL</dc:title>
</cp:coreProperties>
</file>